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11227-BF48-455C-9838-73A2C0545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2AC53-69AA-41C1-926C-113118435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AF6DA-63B5-4746-ADD3-E65ED9DAF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4E2CC-EF80-4067-9637-6880F1BCA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56550-D5ED-4139-9EA1-01B9F0C42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3982A-57DF-4F6A-BAFA-149E003F4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F7866-CCB4-4E27-9C1D-E782221F7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A87BB-EF4A-47E8-8B05-5EA3A38CE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8A103-0431-4490-B224-FBCB07903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C4324-4B05-4A00-BD5C-CA107263E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B1B23-EC03-4FB8-8BE4-BB8AE0C7F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A9E7F-D5F0-4977-BD4B-03A9F49A8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83BD-6C6C-47B0-B9C4-BCCA2AE0AA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469880"/>
          </a:xfrm>
          <a:prstGeom prst="rect">
            <a:avLst/>
          </a:prstGeom>
          <a:solidFill>
            <a:srgbClr val="d9969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Finance at Les Maisonett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Don’t forge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s Maisonettes is growing – so there will be effects on costs and profit margins as this business gro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The 4 option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udy each option and consider its impact on Sophie’s financial situa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nswer this ques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ing appropriate financial ratios, analyse the profitability, liquidity and activity of L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The 4 options</a:t>
            </a: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verall, Sophie is pleased with her small business and the success. But she is concerned about its future direction and potential market shar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he consulted with her parents, her bank manager and her employees and identified four op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One</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tain the present focus of her business but improve operations and profitability.</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Impact on Finan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Impact of option One on finance</a:t>
            </a:r>
            <a:endParaRPr b="0" lang="en-US" sz="40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 √</a:t>
            </a:r>
            <a:r>
              <a:rPr b="0" lang="en-GB" sz="3200" spc="-1" strike="noStrike">
                <a:solidFill>
                  <a:srgbClr val="000000"/>
                </a:solidFill>
                <a:latin typeface="Calibri"/>
              </a:rPr>
              <a:t> </a:t>
            </a:r>
            <a:r>
              <a:rPr b="0" lang="en-GB" sz="3200" spc="-1" strike="noStrike">
                <a:solidFill>
                  <a:srgbClr val="000000"/>
                </a:solidFill>
                <a:latin typeface="Calibri"/>
              </a:rPr>
              <a:t>This will improve cost control – it will allow her to reduce her costs overtim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 √</a:t>
            </a:r>
            <a:r>
              <a:rPr b="0" lang="en-GB" sz="3200" spc="-1" strike="noStrike">
                <a:solidFill>
                  <a:srgbClr val="000000"/>
                </a:solidFill>
                <a:latin typeface="Calibri"/>
              </a:rPr>
              <a:t>Improved marketing will lead to increased revenu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 √</a:t>
            </a:r>
            <a:r>
              <a:rPr b="0" lang="en-GB" sz="3200" spc="-1" strike="noStrike">
                <a:solidFill>
                  <a:srgbClr val="000000"/>
                </a:solidFill>
                <a:latin typeface="Calibri"/>
              </a:rPr>
              <a:t>Creating a more flexible workforce will reduce her costs and will allow her to be more competitiv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a:t>
            </a:r>
            <a:r>
              <a:rPr b="0" lang="en-GB" sz="3200" spc="-1" strike="noStrike">
                <a:solidFill>
                  <a:srgbClr val="000000"/>
                </a:solidFill>
                <a:latin typeface="Calibri"/>
              </a:rPr>
              <a:t> </a:t>
            </a:r>
            <a:r>
              <a:rPr b="0" lang="en-GB" sz="3200" spc="-1" strike="noStrike">
                <a:solidFill>
                  <a:srgbClr val="000000"/>
                </a:solidFill>
                <a:latin typeface="Calibri"/>
              </a:rPr>
              <a:t>This will improve profitability of L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Two</a:t>
            </a: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 an education centre to promote the ideals of sustainable tourism and fulfil the objectives of the AFE.</a:t>
            </a: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means modifying existing accommodation, cutting outdoor activities, converting one barn to an education centre and restaurant operations will be restricted to guests at LM.</a:t>
            </a: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MPACT ON FIN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Impact of option Two on Finance</a:t>
            </a:r>
            <a:endParaRPr b="0" lang="en-US" sz="40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 √</a:t>
            </a:r>
            <a:r>
              <a:rPr b="0" lang="en-GB" sz="2400" spc="-1" strike="noStrike">
                <a:solidFill>
                  <a:srgbClr val="000000"/>
                </a:solidFill>
                <a:latin typeface="Calibri"/>
              </a:rPr>
              <a:t> </a:t>
            </a:r>
            <a:r>
              <a:rPr b="0" lang="en-GB" sz="2400" spc="-1" strike="noStrike">
                <a:solidFill>
                  <a:srgbClr val="000000"/>
                </a:solidFill>
                <a:latin typeface="Calibri"/>
              </a:rPr>
              <a:t>This will support her move for eco-tourism so may attract eco-tourists to her – increased revenue.</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 √</a:t>
            </a:r>
            <a:r>
              <a:rPr b="0" lang="en-GB" sz="2400" spc="-1" strike="noStrike">
                <a:solidFill>
                  <a:srgbClr val="000000"/>
                </a:solidFill>
                <a:latin typeface="Calibri"/>
              </a:rPr>
              <a:t> </a:t>
            </a:r>
            <a:r>
              <a:rPr b="0" lang="en-GB" sz="2400" spc="-1" strike="noStrike">
                <a:solidFill>
                  <a:srgbClr val="000000"/>
                </a:solidFill>
                <a:latin typeface="Calibri"/>
              </a:rPr>
              <a:t>She can now consider marketing to the 18-30 group of eco-tourists she wanted to targe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Cost savings by being more energy efficient and carbon neutral.</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This will cost money to implemen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Cutting outdoor activities means loss of revenue, as they are a good source of income.</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Restricting restaurant operations to guests will reduce their potential customers – so loss of reven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Three</a:t>
            </a: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position LM as a luxurious eco-tourist retreat, develop a new USP and targeting higher income market segment.</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igh quality locally sourced produce will be offered and a range of services such as saunas etc.</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mpact on Fin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Impact of Option Three on Finance</a:t>
            </a:r>
            <a:endParaRPr b="0" lang="en-US" sz="40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Targeting high income segment will bring in more revenue. This move could make LM very profitabl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The services will add an extra source of incom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The quality will be a big focus and so will improve its image – increased revenu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She will need substantial investment to upgrade and expand existing faciliti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She will need to invest a great deal into recruiting and training staff, so her costs will increas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This move could increase her gearing, which is currently low, but an increase could mean more interest payments for her. This will not make her very competiti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Four</a:t>
            </a: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l the whole business to a timeshare operator who will redevelop the busi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oney goes to her parents’ retirement and some will go towards renovating the shop.</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means she loses control and ownership of LM.</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Financial issues to revise</a:t>
            </a:r>
            <a:endParaRPr b="0" lang="en-US" sz="4400" spc="-1" strike="noStrike">
              <a:solidFill>
                <a:srgbClr val="000000"/>
              </a:solidFill>
              <a:latin typeface="Calibri"/>
            </a:endParaRPr>
          </a:p>
        </p:txBody>
      </p:sp>
      <p:sp>
        <p:nvSpPr>
          <p:cNvPr id="44" name=""/>
          <p:cNvSpPr txBox="1"/>
          <p:nvPr/>
        </p:nvSpPr>
        <p:spPr>
          <a:xfrm>
            <a:off x="457200" y="144792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ownward pressure on profit margin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concerns highlighted in the balance sheet</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ne 152 – Sophie is considering applying for a bank loan – and knows she can do so with a good interest rate.</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e needs to prepare a business plan and consider her budget for the new holiday packages (line 91)</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ATIO ANALYSIS </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NALYSING THE FINANCIAL SITUATION OF LES MAISONNETTES</a:t>
            </a:r>
            <a:endParaRPr b="0" lang="en-US" sz="3200" spc="-1" strike="noStrike">
              <a:solidFill>
                <a:srgbClr val="000000"/>
              </a:solidFill>
              <a:latin typeface="Calibri"/>
            </a:endParaRPr>
          </a:p>
        </p:txBody>
      </p:sp>
      <p:graphicFrame>
        <p:nvGraphicFramePr>
          <p:cNvPr id="81" name=""/>
          <p:cNvGraphicFramePr/>
          <p:nvPr/>
        </p:nvGraphicFramePr>
        <p:xfrm>
          <a:off x="2666880" y="1981080"/>
          <a:ext cx="4114800" cy="1067040"/>
        </p:xfrm>
        <a:graphic>
          <a:graphicData uri="http://schemas.openxmlformats.org/drawingml/2006/table">
            <a:tbl>
              <a:tblPr/>
              <a:tblGrid>
                <a:gridCol w="4114800"/>
              </a:tblGrid>
              <a:tr h="1067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2" name=""/>
          <p:cNvGraphicFramePr/>
          <p:nvPr/>
        </p:nvGraphicFramePr>
        <p:xfrm>
          <a:off x="457200" y="3200400"/>
          <a:ext cx="8458200" cy="1371600"/>
        </p:xfrm>
        <a:graphic>
          <a:graphicData uri="http://schemas.openxmlformats.org/drawingml/2006/table">
            <a:tbl>
              <a:tblPr/>
              <a:tblGrid>
                <a:gridCol w="8458200"/>
              </a:tblGrid>
              <a:tr h="137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u="sng">
                <a:solidFill>
                  <a:srgbClr val="000000"/>
                </a:solidFill>
                <a:uFillTx/>
                <a:latin typeface="Calibri"/>
              </a:rPr>
              <a:t>Ratio Analysi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atios are used to interpret financial account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atio Analysis can be used to assess the financial performance of a busines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atios can be used to analyse three separate issues on the operations of a busines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Performance: which compasses profitability and productivity</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Liquidity: which refers to the ability of the business to generate cash for operating the business as and when required</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Shareholder: which concerns the variables that just the shareholders are likely to be interested i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 What are the advantages and disadvantages of using ratio analysis?</a:t>
            </a:r>
            <a:br>
              <a:rPr sz="2400"/>
            </a:br>
            <a:endParaRPr b="0" lang="en-US" sz="2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main advantages of ratio analysis will b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will be able to look at trend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tios can be used to forecast and plan, summarise data, to identify problems before they become acute and to assess performan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do an inter-firm comparis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see and analyse trend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make future predictions based on your finding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find areas with high problems and try to find ways to solve th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sadvantages of Ratios</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However, ratios should be used with caution. Ratio analysis does not provide a complete means of assessing a company’s financial performance. There are problems with using ratios. The main disadvantages of ratio analysis ar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y only highlight the problem but not provide a solutio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Based on historical information and does not take into account positive factors within a business such as location, quality of staff etc. all of which can affect performanc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Ratios do not take many factors into consideratio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y do not measure non-monetary factor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When making comparisons between ratios overtime, it is necessary to take into account the following:</a:t>
            </a:r>
            <a:endParaRPr b="0" lang="en-US" sz="1900" spc="-1" strike="noStrike">
              <a:solidFill>
                <a:srgbClr val="000000"/>
              </a:solidFill>
              <a:latin typeface="Calibri"/>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Inflatio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Any changes in accounting procedure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Changes in the business activities of the firm</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Changes in general business conditions and the economic environment.</a:t>
            </a:r>
            <a:endParaRPr b="0" lang="en-US" sz="1900" spc="-1" strike="noStrike">
              <a:solidFill>
                <a:srgbClr val="000000"/>
              </a:solidFill>
              <a:latin typeface="Calibri"/>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ofitability Ratios</a:t>
            </a: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se ratios focus on the firm’s profi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will look at profit in relation to the value of sales revenu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PM: known as mark-up. This shows the gross profit made on sales turnove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PM: helps to measure how well a business covers its overheads. If the difference between the gross profit and net profit is small, then overheads are low.</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CE: an important ratio. It tells what returns the firm has made on the resources ma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Ratios to Calculate - Profitability</a:t>
            </a:r>
            <a:endParaRPr b="0" lang="en-US" sz="4000" spc="-1" strike="noStrike">
              <a:solidFill>
                <a:srgbClr val="000000"/>
              </a:solidFill>
              <a:latin typeface="Calibri"/>
            </a:endParaRPr>
          </a:p>
        </p:txBody>
      </p:sp>
      <p:sp>
        <p:nvSpPr>
          <p:cNvPr id="92" name="PlaceHolder 2"/>
          <p:cNvSpPr>
            <a:spLocks noGrp="1"/>
          </p:cNvSpPr>
          <p:nvPr>
            <p:ph/>
          </p:nvPr>
        </p:nvSpPr>
        <p:spPr>
          <a:xfrm>
            <a:off x="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93" name=""/>
          <p:cNvGraphicFramePr/>
          <p:nvPr/>
        </p:nvGraphicFramePr>
        <p:xfrm>
          <a:off x="304920" y="1295280"/>
          <a:ext cx="8381880" cy="4653000"/>
        </p:xfrm>
        <a:graphic>
          <a:graphicData uri="http://schemas.openxmlformats.org/drawingml/2006/table">
            <a:tbl>
              <a:tblPr/>
              <a:tblGrid>
                <a:gridCol w="2874960"/>
                <a:gridCol w="5506920"/>
              </a:tblGrid>
              <a:tr h="1368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PM –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ss Profit Margi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ss profi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10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ov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PM –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Profit Marg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Profit before tax and intere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10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ov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4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CE – Return on Capital Employ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fit before tax and intere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10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ital Employ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ofitability Ratios</a:t>
            </a:r>
            <a:endParaRPr b="0" lang="en-US" sz="4000" spc="-1" strike="noStrike">
              <a:solidFill>
                <a:srgbClr val="000000"/>
              </a:solidFill>
              <a:latin typeface="Calibri"/>
            </a:endParaRPr>
          </a:p>
        </p:txBody>
      </p:sp>
      <p:graphicFrame>
        <p:nvGraphicFramePr>
          <p:cNvPr id="95" name=""/>
          <p:cNvGraphicFramePr/>
          <p:nvPr/>
        </p:nvGraphicFramePr>
        <p:xfrm>
          <a:off x="380880" y="838080"/>
          <a:ext cx="8458200" cy="5284800"/>
        </p:xfrm>
        <a:graphic>
          <a:graphicData uri="http://schemas.openxmlformats.org/drawingml/2006/table">
            <a:tbl>
              <a:tblPr/>
              <a:tblGrid>
                <a:gridCol w="3413160"/>
                <a:gridCol w="2522520"/>
                <a:gridCol w="2522520"/>
              </a:tblGrid>
              <a:tr h="760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ati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eece1"/>
                    </a:solidFill>
                  </a:tcPr>
                </a:tc>
              </a:tr>
              <a:tr h="1343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PM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ss Profit Margin</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4.0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2.3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13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PM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Profit Marg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1.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3.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88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CE – Return on Capital Employ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3.0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0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6" name="Line 41"/>
          <p:cNvSpPr/>
          <p:nvPr/>
        </p:nvSpPr>
        <p:spPr>
          <a:xfrm>
            <a:off x="8381880" y="1981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42"/>
          <p:cNvSpPr/>
          <p:nvPr/>
        </p:nvSpPr>
        <p:spPr>
          <a:xfrm>
            <a:off x="838188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43"/>
          <p:cNvSpPr/>
          <p:nvPr/>
        </p:nvSpPr>
        <p:spPr>
          <a:xfrm>
            <a:off x="8381880" y="4572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Analysis of Les Maisonnettes’ profitability</a:t>
            </a:r>
            <a:endParaRPr b="0" lang="en-US" sz="40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level of profitability has reduced at L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re is a large difference between the GPM and NPM, showing the difficulties Sophie is facing with controlling overhea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reduced NPM is not a good sign, showing she has less profit to distribute to shareholders and to reinvest in the busines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drop in ROCE does not show LM to be a safe investmen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Analysis of Les Maisonnettes’ profitability</a:t>
            </a:r>
            <a:endParaRPr b="0" lang="en-US" sz="40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r overheads are clearly not being spread over a greater level of sal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e is not benefiting from economies of scale. She needs to improve productivity and lower cos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ROCE has decreased, this means that sales growth has been slower than the rise in capital.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ROCE will drop due to reduced gross and net profi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seems that LM has poor cost control in terms of direct cos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Causes’ of LM’s declining profitability</a:t>
            </a:r>
            <a:endParaRPr b="0" lang="en-US" sz="40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could be because she has only relied on word of mouth promotion – and she needs to alter her marketing strateg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costs of the activities are high. (Her expenses increased by 8000 euros in 3 years (see appendix 3).</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ales declined and cost of sales increased (appendix 3)</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e was charging the same amount all year and not taking advantage of peak seas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petition (Sanctuary) and other external factors such as the housing market, weather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alth and safety regulations meant increased costs for h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business website – not taking advantage of online booking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Sources of Financ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phie already took out a </a:t>
            </a:r>
            <a:r>
              <a:rPr b="1" lang="en-GB" sz="2800" spc="-1" strike="noStrike">
                <a:solidFill>
                  <a:srgbClr val="000000"/>
                </a:solidFill>
                <a:latin typeface="Calibri"/>
              </a:rPr>
              <a:t>bank loan </a:t>
            </a:r>
            <a:r>
              <a:rPr b="0" lang="en-GB" sz="2800" spc="-1" strike="noStrike">
                <a:solidFill>
                  <a:srgbClr val="000000"/>
                </a:solidFill>
                <a:latin typeface="Calibri"/>
              </a:rPr>
              <a:t>initially at the start to fund the new venture “Les Maisonettes” - €300,000 to be paid back in 2026. (Line 1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2004 – </a:t>
            </a:r>
            <a:r>
              <a:rPr b="1" lang="en-GB" sz="2800" spc="-1" strike="noStrike">
                <a:solidFill>
                  <a:srgbClr val="000000"/>
                </a:solidFill>
                <a:latin typeface="Calibri"/>
              </a:rPr>
              <a:t>conversion </a:t>
            </a:r>
            <a:r>
              <a:rPr b="0" lang="en-GB" sz="2800" spc="-1" strike="noStrike">
                <a:solidFill>
                  <a:srgbClr val="000000"/>
                </a:solidFill>
                <a:latin typeface="Calibri"/>
              </a:rPr>
              <a:t>from sole trader to LT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classes are providing a large source of income for Sophie. But she had to take out an additional 5 year </a:t>
            </a:r>
            <a:r>
              <a:rPr b="1" lang="en-GB" sz="2800" spc="-1" strike="noStrike">
                <a:solidFill>
                  <a:srgbClr val="000000"/>
                </a:solidFill>
                <a:latin typeface="Calibri"/>
              </a:rPr>
              <a:t>bank loan </a:t>
            </a:r>
            <a:r>
              <a:rPr b="0" lang="en-GB" sz="2800" spc="-1" strike="noStrike">
                <a:solidFill>
                  <a:srgbClr val="000000"/>
                </a:solidFill>
                <a:latin typeface="Calibri"/>
              </a:rPr>
              <a:t>of €15,000 for equipment and start up cos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e capital – see balance shee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How can profitability improve?</a:t>
            </a:r>
            <a:endParaRPr b="0" lang="en-US" sz="4000" spc="-1" strike="noStrike">
              <a:solidFill>
                <a:srgbClr val="000000"/>
              </a:solidFill>
              <a:latin typeface="Calibri"/>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rove her marketing strategy to increase sales revenue. Strategies such as sales promotion may help to boost sa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duce costs – such as labour costs (but this may impact on morale and productivity – customer serv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duce indirect costs – overheads - without damaging effects to the firm.</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Liquidity Ratios</a:t>
            </a: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quidity ratios measure how assets of a business can be converted into cash.</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business must make sure it has enough liquid assets to pay any immediate bills that aris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se ratios are concerned with the short-term financial health of the busines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are concerned with the firm’s working capital and whether or not it is being managed effectivel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o much and it may not be making the most efficient use of its financial resour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Liquidity Ratios to Calculate</a:t>
            </a:r>
            <a:endParaRPr b="0" lang="en-US" sz="4400" spc="-1" strike="noStrike">
              <a:solidFill>
                <a:srgbClr val="000000"/>
              </a:solidFill>
              <a:latin typeface="Calibri"/>
            </a:endParaRPr>
          </a:p>
        </p:txBody>
      </p:sp>
      <p:graphicFrame>
        <p:nvGraphicFramePr>
          <p:cNvPr id="110" name=""/>
          <p:cNvGraphicFramePr/>
          <p:nvPr/>
        </p:nvGraphicFramePr>
        <p:xfrm>
          <a:off x="457200" y="1600200"/>
          <a:ext cx="8229600" cy="4425840"/>
        </p:xfrm>
        <a:graphic>
          <a:graphicData uri="http://schemas.openxmlformats.org/drawingml/2006/table">
            <a:tbl>
              <a:tblPr/>
              <a:tblGrid>
                <a:gridCol w="2822400"/>
                <a:gridCol w="5407200"/>
              </a:tblGrid>
              <a:tr h="2228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Rati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asset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Liabiliti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28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id Test Rati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assets – Stock</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Liabiliti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Liquidity Ratios - Calculations</a:t>
            </a:r>
            <a:endParaRPr b="0" lang="en-US" sz="4400" spc="-1" strike="noStrike">
              <a:solidFill>
                <a:srgbClr val="000000"/>
              </a:solidFill>
              <a:latin typeface="Calibri"/>
            </a:endParaRPr>
          </a:p>
        </p:txBody>
      </p:sp>
      <p:graphicFrame>
        <p:nvGraphicFramePr>
          <p:cNvPr id="112" name=""/>
          <p:cNvGraphicFramePr/>
          <p:nvPr/>
        </p:nvGraphicFramePr>
        <p:xfrm>
          <a:off x="533520" y="1371600"/>
          <a:ext cx="8229600" cy="5021280"/>
        </p:xfrm>
        <a:graphic>
          <a:graphicData uri="http://schemas.openxmlformats.org/drawingml/2006/table">
            <a:tbl>
              <a:tblPr/>
              <a:tblGrid>
                <a:gridCol w="3351240"/>
                <a:gridCol w="2439720"/>
                <a:gridCol w="2438640"/>
              </a:tblGrid>
              <a:tr h="16779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atios</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00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008</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eece1"/>
                    </a:solidFill>
                  </a:tcPr>
                </a:tc>
              </a:tr>
              <a:tr h="17593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urrent Ratio</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75</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0.55</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40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cid Test Ratio</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2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0.22</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Line 36"/>
          <p:cNvSpPr/>
          <p:nvPr/>
        </p:nvSpPr>
        <p:spPr>
          <a:xfrm>
            <a:off x="8305920" y="35053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37"/>
          <p:cNvSpPr/>
          <p:nvPr/>
        </p:nvSpPr>
        <p:spPr>
          <a:xfrm>
            <a:off x="8229600" y="53341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Analysis of LM’s Liquidity</a:t>
            </a: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is generally accepted that a current ratio of 1.5 to 2.0 is desirable – this will allow for a safety marg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 2005, LM’s current ratio was in a comfortable position at 1.75:1. However, in 2008, it had declined to 0.55, showing insufficient working capital. This means that as a result of the ratio being below 1:1, the short term debts of the business are greater than its liquid assets, which is not a good position to be 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Analysis of LM’s Liquidity</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means that LM does not have enough working capital – it could be over-borrowing or over trad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 a general rule, the ATR should be at least 1:1. This means that, in 2008, LM’s ratio fell to 0.22:1, and this is not a good sign. This shows that Sophie may be experiencing working capital problems, and if this continues, she could face a liquidity cri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R shows that she could be unable to cover short-term debt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Solutions to LM’s liquidity problems</a:t>
            </a:r>
            <a:endParaRPr b="0" lang="en-US" sz="4000" spc="-1" strike="noStrike">
              <a:solidFill>
                <a:srgbClr val="000000"/>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crease its current assets relative to its current liabilities. O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duce its current liabilities relative to its current asse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LM’s case, it is her short term borrowing that has increased drastically by 15,000 Euros – and this will have to reduce in order to improve liquidi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e should also consider reducing short term creditor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Efficiency Ratios</a:t>
            </a: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so called activity rati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se are used to measure how effectively a business employs its resour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 look at how well a firm’s financial resources are being used.</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Efficiency (Activity) Ratios</a:t>
            </a:r>
            <a:endParaRPr b="0" lang="en-US" sz="4000" spc="-1" strike="noStrike">
              <a:solidFill>
                <a:srgbClr val="000000"/>
              </a:solidFill>
              <a:latin typeface="Calibri"/>
            </a:endParaRPr>
          </a:p>
        </p:txBody>
      </p:sp>
      <p:graphicFrame>
        <p:nvGraphicFramePr>
          <p:cNvPr id="124" name=""/>
          <p:cNvGraphicFramePr/>
          <p:nvPr/>
        </p:nvGraphicFramePr>
        <p:xfrm>
          <a:off x="533520" y="990720"/>
          <a:ext cx="8229600" cy="5529240"/>
        </p:xfrm>
        <a:graphic>
          <a:graphicData uri="http://schemas.openxmlformats.org/drawingml/2006/table">
            <a:tbl>
              <a:tblPr/>
              <a:tblGrid>
                <a:gridCol w="2822400"/>
                <a:gridCol w="5407200"/>
              </a:tblGrid>
              <a:tr h="1497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tock Turnov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st of sal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verage Stoc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btors’ Days (H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bto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36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ales Revenue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reditors’ Day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 </a:t>
                      </a:r>
                      <a:r>
                        <a:rPr b="1" lang="en-GB" sz="2400" spc="-1" strike="noStrike">
                          <a:solidFill>
                            <a:srgbClr val="000000"/>
                          </a:solidFill>
                          <a:latin typeface="Calibri"/>
                        </a:rPr>
                        <a:t>(H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redito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36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st of sal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sset Turnov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o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Asse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Efficiency Ratios - Calculations</a:t>
            </a:r>
            <a:endParaRPr b="0" lang="en-US" sz="4000" spc="-1" strike="noStrike">
              <a:solidFill>
                <a:srgbClr val="000000"/>
              </a:solidFill>
              <a:latin typeface="Calibri"/>
            </a:endParaRPr>
          </a:p>
        </p:txBody>
      </p:sp>
      <p:graphicFrame>
        <p:nvGraphicFramePr>
          <p:cNvPr id="126" name=""/>
          <p:cNvGraphicFramePr/>
          <p:nvPr/>
        </p:nvGraphicFramePr>
        <p:xfrm>
          <a:off x="457200" y="1600200"/>
          <a:ext cx="8381880" cy="4691160"/>
        </p:xfrm>
        <a:graphic>
          <a:graphicData uri="http://schemas.openxmlformats.org/drawingml/2006/table">
            <a:tbl>
              <a:tblPr/>
              <a:tblGrid>
                <a:gridCol w="3321000"/>
                <a:gridCol w="2389320"/>
                <a:gridCol w="2671560"/>
              </a:tblGrid>
              <a:tr h="609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ati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eece1"/>
                    </a:solidFill>
                  </a:tcPr>
                </a:tc>
              </a:tr>
              <a:tr h="990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tock Turno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5.67 tim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33 tim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btors’ Days (H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1.92 day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3.98 day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reditors’ Days (H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128.7 day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78.21 days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sset Turnov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0.31 tim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0.30 tim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Line 47"/>
          <p:cNvSpPr/>
          <p:nvPr/>
        </p:nvSpPr>
        <p:spPr>
          <a:xfrm>
            <a:off x="8458200" y="2514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8"/>
          <p:cNvSpPr/>
          <p:nvPr/>
        </p:nvSpPr>
        <p:spPr>
          <a:xfrm>
            <a:off x="8458200" y="4343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9"/>
          <p:cNvSpPr/>
          <p:nvPr/>
        </p:nvSpPr>
        <p:spPr>
          <a:xfrm flipV="1">
            <a:off x="8458200" y="3352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1"/>
          <p:cNvSpPr/>
          <p:nvPr/>
        </p:nvSpPr>
        <p:spPr>
          <a:xfrm>
            <a:off x="8458200" y="53341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Gearing</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ing the following formula calculate LM’s gearing ratio (see appendix f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oan capital/capital employed * 10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Summary of LM’s Efficiency</a:t>
            </a: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ock turnover has reduced, which is not a good sign for LM. This means less stock is sold and less profit generated. Sophie is not benefiting from purchasing economies of sca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M’s debtors days ratio is low, which is good, but increasing. This means that it takes upto 4 days for debtors to pay. But too low a ratio is not good either, as customers may seek other suppliers if the credit period given to them is uncompetitive. It could also suggest that there are not enough firms buying on credit. Good credit control should be within 30-60 day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reditors’ days should also be between 30-60 days. LM’s is very high. This could mean that LM is taking too long to may have a harmful effect on her cash flow. </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Solutions to LM’s efficiency</a:t>
            </a: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velop a closer relationship with customers, suppliers and credit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rove levels of stock control in the busin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rove credit control, which will help improve its working capit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crease turnover using the same assets, so that assets work more effectively is a way to improve asset turnov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You must also revise</a:t>
            </a:r>
            <a:endParaRPr b="0" lang="en-US" sz="4400" spc="-1" strike="noStrike">
              <a:solidFill>
                <a:srgbClr val="000000"/>
              </a:solidFill>
              <a:latin typeface="Calibri"/>
            </a:endParaRPr>
          </a:p>
        </p:txBody>
      </p:sp>
      <p:sp>
        <p:nvSpPr>
          <p:cNvPr id="136" name=""/>
          <p:cNvSpPr txBox="1"/>
          <p:nvPr/>
        </p:nvSpPr>
        <p:spPr>
          <a:xfrm>
            <a:off x="304920" y="1600200"/>
            <a:ext cx="861048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dvantages and disadvantages of bank loan as a source of finance?</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additional sources of finance would you recommend for Les maisonette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vise what a business plan and what should be included in it and why it is used?</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revise budgeting!!</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revise the meaning of all ratios and apply them to LM.</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learn and revise WORKING CAPIT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Gearing</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3.1% for 200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4.4% for 200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ing the Raffo book – what does this tell you about its gearing le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n-Financial factors</a:t>
            </a:r>
            <a:endParaRPr b="0" lang="en-US" sz="4400" spc="-1" strike="noStrike">
              <a:solidFill>
                <a:srgbClr val="000000"/>
              </a:solidFill>
              <a:latin typeface="Calibri"/>
            </a:endParaRPr>
          </a:p>
        </p:txBody>
      </p:sp>
      <p:graphicFrame>
        <p:nvGraphicFramePr>
          <p:cNvPr id="52" name=""/>
          <p:cNvGraphicFramePr/>
          <p:nvPr/>
        </p:nvGraphicFramePr>
        <p:xfrm>
          <a:off x="457200" y="1600200"/>
          <a:ext cx="8229600" cy="3886200"/>
        </p:xfrm>
        <a:graphic>
          <a:graphicData uri="http://schemas.openxmlformats.org/drawingml/2006/table">
            <a:tbl>
              <a:tblPr/>
              <a:tblGrid>
                <a:gridCol w="2057400"/>
                <a:gridCol w="2057400"/>
                <a:gridCol w="1752480"/>
                <a:gridCol w="236232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mpact on finance (posi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mpact on finance (nega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on-Financial factors</a:t>
            </a:r>
            <a:endParaRPr b="0" lang="en-US" sz="2000" spc="-1" strike="noStrike">
              <a:solidFill>
                <a:srgbClr val="000000"/>
              </a:solidFill>
              <a:latin typeface="Calibri"/>
            </a:endParaRPr>
          </a:p>
        </p:txBody>
      </p:sp>
      <p:graphicFrame>
        <p:nvGraphicFramePr>
          <p:cNvPr id="54" name=""/>
          <p:cNvGraphicFramePr/>
          <p:nvPr/>
        </p:nvGraphicFramePr>
        <p:xfrm>
          <a:off x="457200" y="457200"/>
          <a:ext cx="8686800" cy="5668920"/>
        </p:xfrm>
        <a:graphic>
          <a:graphicData uri="http://schemas.openxmlformats.org/drawingml/2006/table">
            <a:tbl>
              <a:tblPr/>
              <a:tblGrid>
                <a:gridCol w="2131920"/>
                <a:gridCol w="711360"/>
                <a:gridCol w="3236760"/>
                <a:gridCol w="26067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osi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ga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Joint venture with local wine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ill provide increased revenue for Les Maisonet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y bring about extra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growing niche market – can increase revenue (Logis de France) (25% growth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ew visitors from 18-30 age group who believe in 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6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icing strateg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e is considering charging higher prices during peak season which will bring in more reven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e has been charging the same amount throughout the year so not benefiting from peak season. (lost revenue opportunities). Plus she may have to reduce prices to maintain occupancy rates (Line 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w marketing approa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tter marketing – increased awareness and reven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is will cost money to impl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on-Financial factors</a:t>
            </a:r>
            <a:endParaRPr b="0" lang="en-US" sz="2000" spc="-1" strike="noStrike">
              <a:solidFill>
                <a:srgbClr val="000000"/>
              </a:solidFill>
              <a:latin typeface="Calibri"/>
            </a:endParaRPr>
          </a:p>
        </p:txBody>
      </p:sp>
      <p:graphicFrame>
        <p:nvGraphicFramePr>
          <p:cNvPr id="56" name=""/>
          <p:cNvGraphicFramePr/>
          <p:nvPr/>
        </p:nvGraphicFramePr>
        <p:xfrm>
          <a:off x="304920" y="685800"/>
          <a:ext cx="8610480" cy="6103800"/>
        </p:xfrm>
        <a:graphic>
          <a:graphicData uri="http://schemas.openxmlformats.org/drawingml/2006/table">
            <a:tbl>
              <a:tblPr/>
              <a:tblGrid>
                <a:gridCol w="2152440"/>
                <a:gridCol w="2152800"/>
                <a:gridCol w="1992240"/>
                <a:gridCol w="2313000"/>
              </a:tblGrid>
              <a:tr h="71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osi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ga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5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mpet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age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t has made her find further ways to develop her business (activ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phie may have to lower prices to beat competition and to keep occupancy ra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anctuary’s costs are low (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e is finding it harder to attract new custom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ctiv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y represent a growing source of income for L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e borrowing required to pay for equipment and start-up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3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affing issues (HR and demographic changes Line 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mall amount of staff/part time – less labour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ffing issues may affect customer service and word of mout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n-Financial factors</a:t>
            </a:r>
            <a:endParaRPr b="0" lang="en-US" sz="4000" spc="-1" strike="noStrike">
              <a:solidFill>
                <a:srgbClr val="000000"/>
              </a:solidFill>
              <a:latin typeface="Calibri"/>
            </a:endParaRPr>
          </a:p>
        </p:txBody>
      </p:sp>
      <p:graphicFrame>
        <p:nvGraphicFramePr>
          <p:cNvPr id="58" name=""/>
          <p:cNvGraphicFramePr/>
          <p:nvPr/>
        </p:nvGraphicFramePr>
        <p:xfrm>
          <a:off x="0" y="609480"/>
          <a:ext cx="9144000" cy="5989680"/>
        </p:xfrm>
        <a:graphic>
          <a:graphicData uri="http://schemas.openxmlformats.org/drawingml/2006/table">
            <a:tbl>
              <a:tblPr/>
              <a:tblGrid>
                <a:gridCol w="2286000"/>
                <a:gridCol w="2286000"/>
                <a:gridCol w="2201760"/>
                <a:gridCol w="2370240"/>
              </a:tblGrid>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osi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ga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ealth &amp; Safety EU Legis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ess problems with accidents (costs l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g cost implic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1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ouse pr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alling holiday rents and increased compet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9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inter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an help increase awareness and allow her to be more competitive. Increased sales through on-line book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w motorw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ow cost routes to Engl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Weat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creased ins. Premiums/loss of revenue/cancel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Eavan Zora</dc:creator>
  <dc:description/>
  <dc:language>en-US</dc:language>
  <cp:lastModifiedBy>chwh</cp:lastModifiedBy>
  <dcterms:modified xsi:type="dcterms:W3CDTF">2009-03-31T06:47:20Z</dcterms:modified>
  <cp:revision>76</cp:revision>
  <dc:subject/>
  <dc:title>Finance at Les Maisonettes</dc:title>
</cp:coreProperties>
</file>