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F8CC-298C-407A-A637-669D4946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6F5C-DC28-444B-BF6F-E64AC203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11F4-2F91-4AFD-8EA0-4138B0F3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86F5-3608-494B-A326-19B3B955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0F25-3FD6-41EF-A486-04425D75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6FBF-5EF6-41D7-88A7-E62EDCBD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830B-9B6C-4BA3-AA70-1516BE19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7885-C7E8-41E7-AEA7-47C4FE8F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338E-75A9-443D-864C-BD6DEA5E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3455-CD40-4402-A1AB-0AA3E4D7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6F5F-1B18-40DA-AC04-5204A2EB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122A-C14E-4C34-8E12-63A61564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5921-17D5-444D-B141-67822DC0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714D-DD39-4479-B4F4-69EF422E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8915-3905-4AA7-882B-7566355B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E66E-2662-46A3-9D4A-0F013854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21D6-D276-49AE-A07E-014F8863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BD8ED-58E7-42ED-A9BD-229C3175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EB411-07CF-4012-8719-A3E6E9AB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DAEFC-F6C3-4AB2-8D7A-AB42D758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35813-BFE1-4BFC-B607-EA3F3C6C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6AC9B-97E7-45F1-B478-F3191CB2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196E-5005-4B84-899A-68E0A2D6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7FF8D-7F7C-4D87-A700-A204EAC5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4E307-8BE1-41A9-AF6C-A5B6340C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0515B-116D-4AB5-BD1C-AE1A023E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C48B6-2B86-46E2-9D5C-E7712DB6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22BF1-AD70-4116-9244-66B6596E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9561C-9C13-4228-9FA5-E51CFBFF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EBB19-F261-4F78-96A5-A7C5FFCE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5558C-1D43-493A-8902-019B8705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275DB-21FB-4B61-A296-1BB73766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82FD4-E526-4A77-9018-F07A7116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B0EC-F9AB-4ABC-95BE-6FA896C6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E3506-CD70-4717-96BA-4B167FF0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81F6C-0414-4541-9346-1D1BA84C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267FA-2A92-4194-AB81-D61D487A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B3DB1-5935-40B9-A587-2D283C24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D95B2-8BFD-4DAC-98D2-6D343E58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9709F-A8D3-4ACD-9A73-E8A506CF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D39B9-7682-4696-B91D-AD922ED6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F0DBF-754B-4FAB-BA36-A078A18B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C9422-08D6-488F-B814-B4E6A20C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1795C-D882-4672-8766-85716412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DECF-F658-4B16-9E8D-6DC0FFCA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8E7A4-E1C9-47F4-A351-065568BD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FBA23-7955-46F3-B5A6-B884083C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FF864-B2CD-43F0-B721-BCA252A0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AAF5E-F43B-4F20-9489-F061C6A8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C7C46-94A7-46F9-A4EF-2B9E5543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F4A8E-2A7D-4F4A-A0E1-9BA6DB86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67C96-5854-4774-B1FC-B09DE9E5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33C68-3110-4B56-94C0-D704880D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61D8A-B69A-4044-8370-767F1EBD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2C42E-1B21-4D05-8AE1-2555C2063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9E60-718D-4908-8FA5-5B18C57D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A4569-7407-4BFA-ACAB-3040F77AD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0E324-E845-401D-91BB-C9CBB09E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6F524-5A4C-406F-93DC-99455E6C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D2AF0-2262-4B54-B528-0B537505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66C0F-638F-4817-9092-21E17095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3FA7E-2AFE-40B0-8C68-C3807531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A823B-DBB6-4EED-9D67-5FC38D86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F7B24-EFB2-458A-AAA2-9517072A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32CCA-2E7A-4FF9-8ED1-5C3BD5D8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58562-9FD4-4A9A-A708-C62D6497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0CC9-1E3D-43DB-A265-358981F6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1F3F9-9AA6-42BA-AD19-55AD39C6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17AE9-5C3F-45E9-BB9D-3EAC7D50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4734C-EC4D-4C9A-9A08-BAB3FB28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39F53-18A5-4309-B180-949E386B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6273D-C69F-46EC-9662-F19C6BB4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E88D5-E83D-4678-B8E1-B0EECB05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6A8EA-6127-4108-A745-C8FBFF7A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AF88A-9C34-4AEE-89A7-EE815C3A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17FCA-0FA9-4F0E-ACAD-C8CD3692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39C02-1F7E-410F-B78E-1372B9DD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3A97-8248-44BE-BBA4-A247528E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4B5F5-DF72-407D-BB6A-679FF694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B35B6-BF46-4BD1-93D1-2E063FAB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F9BC8-2A66-4B05-A956-27C81ED2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8EBE8-A6DB-4127-AFDC-861E3482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608DE-F0F3-4ACB-9887-6CE7139A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A363C-DFF0-4E7F-B62B-6D0679ED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0FE79-89B3-42A4-92EF-C4105598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5578B-0FB1-47AE-8B50-FF4C3F00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AA90F-434B-4265-967B-F90F2B77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3D7AC-375D-4204-8AF6-B735E1F1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8DDC-EDA8-46E4-9A0B-F80D8395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89B7C-0BAF-474D-AC1C-C8578594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8247E-A0C3-46EB-98EF-6F0D2A47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BA5B0-6CC0-489B-B930-67A6C154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A0A58-BD76-40D5-A1F2-03CC0E28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0DB5D-E7AD-45D7-9DF7-560A588D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098FB-90B4-4D7A-8EB1-9338C15A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B3CB2-A769-4879-BD8D-F0A9C5B0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59C2-F40D-4DDB-9CA1-8B0F099C2D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9EFA-5A7F-46A0-BA58-CBA3999FB2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926F-EF8F-427D-B81E-454FBA6BB1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DBA3-43C4-4C0C-9710-3DCB96C210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763E-D2F7-4C97-B8D5-F5FBC79684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7D2D-6E43-4079-882D-E932E2DA50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3509-8F7B-4F09-89AB-2F54358D83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6D18-C5CF-4AB0-97EF-EE2F2C9831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523800" y="1749600"/>
            <a:ext cx="824868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64646"/>
                </a:solidFill>
                <a:latin typeface="Lucida Sans Unicode"/>
              </a:rPr>
              <a:t>May 2009 IB Case Stu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700" spc="-1" strike="noStrike">
                <a:solidFill>
                  <a:srgbClr val="464646"/>
                </a:solidFill>
                <a:latin typeface="Lucida Sans Unicode"/>
              </a:rPr>
              <a:t>Issues to Revi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Lucida Sans Unicode"/>
              </a:rPr>
              <a:t>A paternalistic leader thinks and acts like a parent. He/she tries to do their best for their workers.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Lucida Sans Unicode"/>
              </a:rPr>
              <a:t>There may be consultation to find out the views of employees, but decisions are made by the head of the family. 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Sans Unicode"/>
              </a:rPr>
              <a:t>This type of leader believes employees need direction but thinks it is important they are supported and cared for properly.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Sans Unicode"/>
              </a:rPr>
              <a:t>Paternalistic managers are interested in the security and social needs of their staff. 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Sans Unicode"/>
              </a:rPr>
              <a:t>They are interested in how workers feel and whether they are happy in their work.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Sans Unicode"/>
              </a:rPr>
              <a:t>Nevertheless, it is quite an autocratic approach.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he knows the staff well so feels that a paternalistic approach is best – as they are family friend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t is not a large groups of employees so she can keep control with this paternalistic approac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ith this approach, she can care for them and look after their welfare, which will make them want to stay with her – and remain loya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re have been problems with this approach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aff absences and poor punctuality. She has to cover their duties, and this takes her away from her core responsibilit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ost of her staff are part-time, and are less likely to be motivated? They may need a more strict approach to get them to wor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As a paternalistic leader (just like autocratic leaders) she does not give employees control over decision mak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task in h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tradition of the organiz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type of wor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group siz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leader’s personal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Group personal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i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ad lines 93-113 of the case study carefully and using your textbook, outline which theorists we can apply to this case study. (leadership (HL) and motivational). (IBO page 269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sing the Raffo book, evaluate the monetary and non-monetary rewards mentioned in the case study (if any). Which do you suggest could be used to solve Sophie’s problem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mportant suggested reading – notes to be made and applied to the case study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ikert – leadershi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atrix structu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informal organiz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inzberg/Pet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Sophie gets a lot of help with her business from her paren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She has several part time and 2 full time employe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These come from the community, and are family friends with Sophie. This is why she has adopted a paternalistic leadership styl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High levels of staff turnover punctualit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The Sanctuary recruiting more part time staff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Having a large number of periphery and a small number of core workers is causing her problem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Does this mean it is wise to recruit more part time – and students???? For a low starting salary as well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he must manage her human resources more professionally and consistently. We could argue that her leadership style is not helping these problem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249120" y="128520"/>
            <a:ext cx="8444160" cy="12985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he core staff have similar eco-tourism values, and they give her ideas about how to attract young eco-tourists to the area. This could open up opportunities for h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Lower costs for summer staff – as their salaries will be low as they are students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She covers a busy period (summer) and avoids recruiting permanent staff she may not need later on if she recruited summer staff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hey are young/fresh new ideas/eager to work (summer staff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249120" y="128520"/>
            <a:ext cx="8444160" cy="12985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Core staff would be more committed to LM. They will be more professional as this is their career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he may find it difficult to employ summer staff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Core idea will be more expensive – as she will have to give career opportunities and an enhanced pay structur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It may solve some of her problems if she increased her core workers – to make it more professional and avoid the current existing problems she is facing with part time staff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Businesses have a core group of workers, which form the basis of its operations and a periphery, which consist of all other tasks needed to run the firm, but which are not central to the busines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Lucida Sans Unicode"/>
              </a:rPr>
              <a:t>Professor Charles Handy suggested that there were three parts to modern firms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Lucida Sans Unicode"/>
              </a:rPr>
              <a:t>Reading Wall page 275-276.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Lucida Sans Unicode"/>
              </a:rPr>
              <a:t>Sophie has adopted a paternalistic leadership style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Lucida Sans Unicode"/>
              </a:rPr>
              <a:t>Definition: where managers and leaders treat their employees as if they were family members by guiding them through a process of consultation. In their opinion, they act in the best interests of their workers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Lucida Sans Unicode"/>
              </a:rPr>
              <a:t>Write down five key features/traits of a paternalistic leader....</a:t>
            </a: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Lucida Sans Unicode"/>
              </a:rPr>
              <a:t>This style is derived from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Lucida Sans Unicode"/>
              </a:rPr>
              <a:t>Mayo’s work on human relations and Maslow’s lower and middle order needs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Lucida Sans Unicode"/>
              </a:rPr>
              <a:t>The approach is to consult with staff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Lucida Sans Unicode"/>
              </a:rPr>
              <a:t>Usually there is emphasis on training and appraisal for personal development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Eavan Zora</dc:creator>
  <dc:description/>
  <dc:language>en-US</dc:language>
  <cp:lastModifiedBy>chwh</cp:lastModifiedBy>
  <dcterms:modified xsi:type="dcterms:W3CDTF">2009-03-31T06:52:22Z</dcterms:modified>
  <cp:revision>26</cp:revision>
  <dc:subject/>
  <dc:title>Les Maisonnettes</dc:title>
</cp:coreProperties>
</file>