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4.png" ContentType="image/pn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5905-076E-4445-8408-6DEC899BA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B5B1-9DC3-4A63-9035-80B624E2F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CCE5-B240-4A1B-9F2A-6D9765CA9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AF64-C26D-4FF6-BD63-4B3EEFDAC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98AA8-67E8-421D-974E-69C920394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D2CFA-6917-47F1-85E5-89661C4D5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6C10E-2C56-49D4-B689-82B9E7E16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AEF81-F01C-4911-86CE-95BE17969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D20AF-0317-43DE-8FBC-485B69744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47F1E-E0BF-4DFD-9AED-744145FA8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D1919-342B-4797-A549-060F8AEEA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B2CB-FF59-4DC7-B644-D9CE9FC17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774FD-4E47-48E9-9586-3689320CB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067B1-958F-4EE2-9F49-0ED760AE5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2287C-D9BC-4A62-AEA3-280EC0224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6C0C4-DC30-4223-8360-2C456DEC7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5EC05-3C34-4C52-8F29-2B3C774CA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E1608-7253-40FE-8D4C-11FD50AE6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E804D-2A97-420B-A9EB-EA2899B5A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D3E0E-233B-404E-9C8E-B9CA29EB5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68F44-93EA-4C40-9292-A072FD7C8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C3431-7AF9-4F1B-B99A-380549007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9E78-38B6-4DC6-97DD-8E3262460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13238-FCE2-4ADB-A7ED-8508A4157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2645D-3609-49EA-9BA4-8DFB5930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EF701-4941-40C4-BBFF-C50B23EFF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7E3F3-85AB-4A43-98A6-92BF5D89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B3E1A-5C00-44E5-A3B7-4A2B1A322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567BD-FF9E-492B-B871-0B99E36BB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012F4-0BB4-4C9B-AED4-9BE242890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E43DC-87EE-4147-B6D9-2278D64B3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B33A6-2EB9-4422-9A8A-3CD108093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4F345-8BA2-498F-9B27-5C22EA6C4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02C2-FFD1-4FBF-8BBC-C5A3B7FEF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1E5A7-697A-4D5F-89A8-878014900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8AEB9-ABCF-41ED-85EE-80D5B2FB9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52E2A-E002-4E07-9ADA-CB651F396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FBCD5-8F39-47C0-9A98-643474C0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DE8C9-74EA-4F28-ACC1-2C8AA57F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EF6DA-1447-4866-91BB-124086D7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892E9-FDE8-4056-9829-22853A643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3825F-4AD5-4571-84B2-5FBB6FEFF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A0975-FB54-47EB-AACC-2DAD53CAD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A43CE-0330-485C-BF4F-435CD06B6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4397-4E77-4AAB-9E54-FA9C4D405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A235B-F053-4405-9F05-AB6525A36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6990B-EC5D-4B1A-ADDF-4E7D8082A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D37992-82F9-4733-846D-8F7733C7D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B08EB9-8A70-4D2A-A212-0CBE4BCA5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64FC1-AD3B-448B-AFFB-EB9895D4F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C79333-8F6E-439B-8B8F-85C4EBDD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44116-AF93-4501-ADC9-280F9D33C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85D4A3-8795-4948-B23C-3E903A9E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600295-558A-4E43-A651-CCC5A2D29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CEEC50-0466-4326-BBD7-89CF8D586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EE50-4041-4301-8704-61E001C3A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D1EB2E-24F6-4F52-9E8B-1CC83A20B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50C33A-4361-4B09-A1FD-771ED3C74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10E8E3-E3FC-49DC-A01E-5A9C500AC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B51123-A5A6-43E2-BE28-4D0E23732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A8D457-C86B-4C2B-A04B-C5C208A62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35D417-0E0C-458B-9FD9-2D81107F8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2A5C01-9952-492F-9C0B-C52BCD27B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0EABD9-385B-41AE-BA8C-DC8AEB463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E0FA64-B9F4-4F52-981A-3653A643C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8241DD-69FF-4A6D-8B1C-DA82CF068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8ECC-B20A-4581-B181-64043FDE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DE8023-1FA1-45DC-8F27-4940893D5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042F90-ACF5-4C80-965A-C156C1606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D00DA4-1A47-496A-A157-CC61688BB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A83ECA-B0BA-4AFE-87B5-448C6B9F4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513391-1A82-4D0D-AC46-82C9D3553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B17EE0-8A6D-4D8B-827A-46960BF3B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F22D36-F320-4447-9EF0-24D2CB38B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9463B3-5372-4ED8-9326-F58423FA1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BAA8F0-0CF1-43C3-9C31-DC76BC4B1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01CBB3-09A8-4263-A98E-A619C9B7B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4649-55D5-4721-B052-C3E000016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0FB7E6-55E6-41EB-A543-96E37BBB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4230B8-54ED-4EF9-9A65-0E7A97EFC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520EC8-458D-4D79-B1B2-CA20F3763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BC8A12-0BD3-4BB5-8F5A-55FE5158C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08B167-4D87-4620-B1CA-377BCB144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05C91E-E499-45E5-AF18-D7A3AB009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03A733-A760-46C5-AB11-7C6A3425A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B8B646-2963-495D-B64B-EF21DCCE3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8A11E9-CD0A-4257-B890-6FA29D6C9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51041B-06B5-4648-B584-F220B1CC1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348B-B035-4A4A-9AB1-2DDF3441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D964A2-E156-486A-BDD1-E9FAF8F4F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AEFAE9-B5CD-4AF4-8585-685A7554B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B8DC1C-5480-44A4-8FA3-0D401173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B15C95-4441-439E-90A1-1DEE587A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F98AD6-DBEF-4F1A-A40B-62F92F5BC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341B68-F0DD-4A64-88A8-F151C6E1D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EB8CD9-1E0E-456D-96A1-B3273E499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54FA3-43AD-4CD0-9255-FC12DFC81EF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8C041-A446-4CD1-AAAD-CDACCC40D8A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213F1-EEE4-44B7-BD12-6C3C95FBDC4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6C4AE-69FB-4277-8451-36CBFE761F8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7FB50-AAB3-4DC4-93E2-7EA943207EE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A5B5E-E3C1-4D94-9315-FBDF8FFB24B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CA751-6DBC-4678-A567-2DD61E3F5B4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B2688-9B43-48B5-9A41-5A45168EA42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523800" y="1749600"/>
            <a:ext cx="824868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464646"/>
                </a:solidFill>
                <a:latin typeface="Lucida Sans Unicode"/>
              </a:rPr>
              <a:t>May 2009 IB Case Stud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700" spc="-1" strike="noStrike">
                <a:solidFill>
                  <a:srgbClr val="464646"/>
                </a:solidFill>
                <a:latin typeface="Lucida Sans Unicode"/>
              </a:rPr>
              <a:t>Issues to Revis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Lucida Sans Unicode"/>
              </a:rPr>
              <a:t>A paternalistic leader thinks and acts like a parent. He/she tries to do their best for their workers.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Lucida Sans Unicode"/>
              </a:rPr>
              <a:t>There may be consultation to find out the views of employees, but decisions are made by the head of the family. 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Lucida Sans Unicode"/>
              </a:rPr>
              <a:t>This type of leader believes employees need direction but thinks it is important they are supported and cared for properly.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Lucida Sans Unicode"/>
              </a:rPr>
              <a:t>Paternalistic managers are interested in the security and social needs of their staff. 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Lucida Sans Unicode"/>
              </a:rPr>
              <a:t>They are interested in how workers feel and whether they are happy in their work.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Lucida Sans Unicode"/>
              </a:rPr>
              <a:t>Nevertheless, it is quite an autocratic approach.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She knows the staff well so feels that a paternalistic approach is best – as they are family friend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It is not a large groups of employees so she can keep control with this paternalistic approach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With this approach, she can care for them and look after their welfare, which will make them want to stay with her – and remain loyal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There have been problems with this approach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Staff absences and poor punctuality. She has to cover their duties, and this takes her away from her core responsibiliti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Most of her staff are part-time, and are less likely to be motivated? They may need a more strict approach to get them to work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As a paternalistic leader (just like autocratic leaders) she does not give employees control over decision mak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The task in han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The tradition of the organiz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The type of work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The group siz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The leader’s personalit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Group personalit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tim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Title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Read lines 93-113 of the case study carefully and using your textbook, outline which theorists we can apply to this case study. (leadership (HL) and motivational). (IBO page 269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Using the Raffo book, evaluate the monetary and non-monetary rewards mentioned in the case study (if any). Which do you suggest could be used to solve Sophie’s problems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Important suggested reading – notes to be made and applied to the case study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Likert – leadershi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Matrix structur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The informal organiz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Minzberg/Pet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1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Sans Unicode"/>
              </a:rPr>
              <a:t>Sophie gets a lot of help with her business from her parent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Sans Unicode"/>
              </a:rPr>
              <a:t>She has several part time and 2 full time employees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Sans Unicode"/>
              </a:rPr>
              <a:t>These come from the community, and are family friends with Sophie. This is why she has adopted a paternalistic leadership style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Rectangle 2" descr=""/>
          <p:cNvPicPr/>
          <p:nvPr/>
        </p:nvPicPr>
        <p:blipFill>
          <a:blip r:embed="rId1"/>
          <a:stretch/>
        </p:blipFill>
        <p:spPr>
          <a:xfrm>
            <a:off x="219240" y="268200"/>
            <a:ext cx="8474040" cy="115884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High levels of staff turnover punctuality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The Sanctuary recruiting more part time staff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Having a large number of periphery and a small number of core workers is causing her problems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Does this mean it is wise to recruit more part time – and students???? For a low starting salary as well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She must manage her human resources more professionally and consistently. We could argue that her leadership style is not helping these problems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Rectangle 2" descr=""/>
          <p:cNvPicPr/>
          <p:nvPr/>
        </p:nvPicPr>
        <p:blipFill>
          <a:blip r:embed="rId1"/>
          <a:stretch/>
        </p:blipFill>
        <p:spPr>
          <a:xfrm>
            <a:off x="249120" y="128520"/>
            <a:ext cx="8444160" cy="129852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The core staff have similar eco-tourism values, and they give her ideas about how to attract young eco-tourists to the area. This could open up opportunities for her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Lower costs for summer staff – as their salaries will be low as they are students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She covers a busy period (summer) and avoids recruiting permanent staff she may not need later on if she recruited summer staff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They are young/fresh new ideas/eager to work (summer staff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Rectangle 2" descr=""/>
          <p:cNvPicPr/>
          <p:nvPr/>
        </p:nvPicPr>
        <p:blipFill>
          <a:blip r:embed="rId1"/>
          <a:stretch/>
        </p:blipFill>
        <p:spPr>
          <a:xfrm>
            <a:off x="249120" y="128520"/>
            <a:ext cx="8444160" cy="129852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Core staff would be more committed to LM. They will be more professional as this is their career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She may find it difficult to employ summer staff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Core idea will be more expensive – as she will have to give career opportunities and an enhanced pay structure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It may solve some of her problems if she increased her core workers – to make it more professional and avoid the current existing problems she is facing with part time staff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Sans Unicode"/>
              </a:rPr>
              <a:t>Businesses have a core group of workers, which form the basis of its operations and a periphery, which consist of all other tasks needed to run the firm, but which are not central to the business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Lucida Sans Unicode"/>
              </a:rPr>
              <a:t>Professor Charles Handy suggested that there were three parts to modern firms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Lucida Sans Unicode"/>
              </a:rPr>
              <a:t>Reading Wall page 275-276.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1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467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Lucida Sans Unicode"/>
              </a:rPr>
              <a:t>Sophie has adopted a paternalistic leadership style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Lucida Sans Unicode"/>
              </a:rPr>
              <a:t>Definition: where managers and leaders treat their employees as if they were family members by guiding them through a process of consultation. In their opinion, they act in the best interests of their workers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Lucida Sans Unicode"/>
              </a:rPr>
              <a:t>Write down five key features/traits of a paternalistic leader....</a:t>
            </a: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Lucida Sans Unicode"/>
              </a:rPr>
              <a:t>This style is derived from: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Lucida Sans Unicode"/>
              </a:rPr>
              <a:t>Mayo’s work on human relations and Maslow’s lower and middle order needs.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Lucida Sans Unicode"/>
              </a:rPr>
              <a:t>The approach is to consult with staff.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Lucida Sans Unicode"/>
              </a:rPr>
              <a:t>Usually there is emphasis on training and appraisal for personal development.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Eavan Zora</dc:creator>
  <dc:description/>
  <dc:language>en-US</dc:language>
  <cp:lastModifiedBy>chwh</cp:lastModifiedBy>
  <dcterms:modified xsi:type="dcterms:W3CDTF">2009-03-31T06:52:22Z</dcterms:modified>
  <cp:revision>26</cp:revision>
  <dc:subject/>
  <dc:title>Les Maisonnettes</dc:title>
</cp:coreProperties>
</file>