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DBC-138E-421D-A402-B95B7792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0B0-DEDB-4FC9-B207-FB4C2572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691-0474-4122-B790-4DFAA125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91F-983F-4A2E-9741-938972C8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2544-7AA5-4ACE-86BD-1A87725B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8880-30E4-4B24-9BCA-227BFEC7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9D82-2F04-4917-9E5E-9E7CD2C9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5A4E-8E65-41F3-B4EB-BFBCFC3C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4CC2-10AC-4CCD-96D4-F0DD30EF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3BE0-AFF2-44EC-AD92-05DD2362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820A-2EA2-48F6-8274-5DC85F1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95B-D7CE-403D-9274-22D3DDA6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E828-6822-4EEF-A217-5617573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435-6B6C-432F-BB27-B5B7A87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6D38-9716-4143-9CB9-38ACB04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E5EB-ABB8-4E10-94C0-DFA89275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8A5A-2A01-4A05-A918-F93518D0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EA47-EE29-4692-AE73-2E4F0CB4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5D7B-DC20-434C-A9B9-C48BA6D7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29D4-D684-4DFA-B76A-8C88B976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19FE-B876-4D63-9D38-C0EFC49B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A980-79A8-4DF9-893D-BECD652E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F6F-0145-4FE6-A8FF-08617B21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9EAB-27A2-429B-A498-63937524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4010-145E-4D6E-933C-32FF66FB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944A-650B-4952-B06D-A0FE1505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2BC84-8C4A-4BCD-9E33-58A97ED4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8F6E-BDA0-4BEC-BB57-6D165E57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713C-28D7-40F0-A2EA-EF3FD01B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B5D5-FE29-461E-A21F-F4CF569A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2783-7CF6-4C8E-A853-78CD3C58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2709-C88F-48DB-8E1C-FE3DD657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57E79-CD4F-419A-942E-486A0667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72B-CB06-43D9-A2C2-714BFFDB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D3ED-EC95-4D94-AAC1-069E2E6D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E6A4-3BB1-4171-BCD6-A8B22E2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7628-E5AB-4A15-BB25-162CBF85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B687-F718-4E70-8CAB-3FE267E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CE8E-6EF0-4377-BC04-F7990F7E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0CC6-A7FB-4B18-A213-882D9FB9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6AE1-F721-41CC-B4CE-2FC2B2B7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D46E-8228-4121-98C7-614EB00F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2317-F239-40D1-8E8F-071241A7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31C33-4756-4E9B-B689-8D316213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7DC-1B5C-4DA3-B8FC-D1FCBA7B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9B634-A63D-454B-BE2C-EAAC10B1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F9BA-3D35-407F-976E-2C3C8636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982E-E40B-498C-A6FB-A441DB4A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6D61D-581E-4F69-952C-6D20057B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5207-1076-416B-B071-5809D3C6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3FB6E-FB69-40F6-9E71-221C826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86DEC-81CF-4787-8B84-43895F38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FBA2-6802-48D0-B265-561F13F9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7ABD-DA09-46D7-807A-A85CC96D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17965-7E54-4B4F-96C2-051D9317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11D-4DE7-44F5-B1AD-A1198536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93FD0-CD49-4022-9928-1FC253D3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108C-3131-4F05-83C8-CA58065D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C112E-5F04-4419-98BC-AFC61573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5DD55-EDDB-4521-8513-989D0EC0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900E-1F4A-4758-A9BF-D0FA3C32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75B4-E72C-4E1C-8152-66191435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B6EAD-C943-4088-90E6-CD21B349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EE1A4-39B3-43F9-AD73-2194BC5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45AF8-D8EB-488E-9905-DBACD8E3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5F564-C098-485A-95CE-BC482869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DD4-4D33-4010-A63B-B7813AE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C244A-CB71-48E4-A97C-DC55C17D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08017-AF6F-4993-A0C3-F3454ADC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2876D-5542-4AD4-8DE5-8AAA3245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4F710-B292-403A-83B5-52F0D84C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5958C-6880-4A2A-9685-D92FFD32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CFADF-EB75-4B67-9726-94997C58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D8F87-A5F2-4315-B55E-2F87FE06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2D9F-7F0E-47FD-8C2A-E475470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9A972-C969-4C22-B9C7-595EFF59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F1FF1-4D1B-42CE-B9A2-339A9B53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630-C1C8-4167-80E7-25F88CE1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69147-5706-4A53-8678-66425C41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81F63-6D9F-42BF-B113-AD48754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1A2E3-F8F2-4396-A6D9-A1768F68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E47EC-2E6A-401E-A9B1-214C4952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F57B8-1CBB-477B-8687-26A2DA1A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DF7A0-21C7-4FCC-8B57-424F8F83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93DE6-EA18-466D-8752-70337A11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5D73A-2CBF-43F7-A847-FEAE6EE3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1B6F9-9601-4ED6-A3DC-261B50DE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947E8-3F08-4D8E-AB21-566FF0E6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996-CCB9-463A-A486-ABC0F1AB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78DF4-DACE-412E-86BC-6FFBFB0E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B4DB6-EFBB-4BA3-A13D-813E2B87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542BD-A3F8-4D70-B4B7-11F45EBB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05979-4AE6-4808-8B1F-F939B3FE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D24EF-C223-421F-BC45-D66418AF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D0F75-261B-47F0-8DE6-D04DE18B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3635B-8DC2-4545-A6B2-9EDB181F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A7E0-E472-43A3-B653-C288148CB3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5A0A-7ACD-43F8-8A27-5D6EEE0438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F2E4-55AF-4421-BEB0-5B96C48981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609C-986E-4363-974D-D049B81615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62D4-DD76-458D-8D4D-1AE8629F61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CDDF-E6F8-4D9F-8B14-B3B0A562B6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3DD5-75A4-4B59-A5D0-861CD8DB3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7D0-7565-4BC8-81CB-11423C2358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23800" y="1749600"/>
            <a:ext cx="82486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64646"/>
                </a:solidFill>
                <a:latin typeface="Lucida Sans Unicode"/>
              </a:rPr>
              <a:t>May 2009 IB Case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464646"/>
                </a:solidFill>
                <a:latin typeface="Lucida Sans Unicode"/>
              </a:rPr>
              <a:t>Issues to Revi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A paternalistic leader thinks and acts like a parent. He/she tries to do their best for their workers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There may be consultation to find out the views of employees, but decisions are made by the head of the family.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is type of leader believes employees need direction but thinks it is important they are supported and cared for properly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Paternalistic managers are interested in the security and social needs of their staff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ey are interested in how workers feel and whether they are happy in their work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Nevertheless, it is quite an autocratic approach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he knows the staff well so feels that a paternalistic approach is best – as they are family frie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t is not a large groups of employees so she can keep control with this paternalistic approa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this approach, she can care for them and look after their welfare, which will make them want to stay with her – and remain loy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re have been problems with this approa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ff absences and poor punctuality. She has to cover their duties, and this takes her away from her core responsibil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st of her staff are part-time, and are less likely to be motivated? They may need a more strict approach to get them to 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s a paternalistic leader (just like autocratic leaders) she does not give employees control over decision mak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ask in h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radition of the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ype of wor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group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leader’s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Group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ad lines 93-113 of the case study carefully and using your textbook, outline which theorists we can apply to this case study. (leadership (HL) and motivational). (IBO page 269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ing the Raffo book, evaluate the monetary and non-monetary rewards mentioned in the case study (if any). Which do you suggest could be used to solve Sophie’s proble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mportant suggested reading – notes to be made and applied to the case stud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ikert – lead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atrix struct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informal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inzberg/Pe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ophie gets a lot of help with her business from her par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he has several part time and 2 full time employe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hese come from the community, and are family friends with Sophie. This is why she has adopted a paternalistic leadership sty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igh levels of staff turnover punctuali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The Sanctuary recruiting more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aving a large number of periphery and a small number of core workers is causing her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Does this mean it is wise to recruit more part time – and students???? For a low starting salary as well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ust manage her human resources more professionally and consistently. We could argue that her leadership style is not helping these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 core staff have similar eco-tourism values, and they give her ideas about how to attract young eco-tourists to the area. This could open up opportunities for h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Lower costs for summer staff – as their salaries will be low as they are student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he covers a busy period (summer) and avoids recruiting permanent staff she may not need later on if she recruited summer staf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y are young/fresh new ideas/eager to work (summer staff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staff would be more committed to LM. They will be more professional as this is their career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ay find it difficult to employ summer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idea will be more expensive – as she will have to give career opportunities and an enhanced pay structur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It may solve some of her problems if she increased her core workers – to make it more professional and avoid the current existing problems she is facing with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Businesses have a core group of workers, which form the basis of its operations and a periphery, which consist of all other tasks needed to run the firm, but which are not central to the busines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Professor Charles Handy suggested that there were three parts to modern firm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Reading Wall page 275-276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Sophie has adopted a paternalistic leadership styl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Definition: where managers and leaders treat their employees as if they were family members by guiding them through a process of consultation. In their opinion, they act in the best interests of their worker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Write down five key features/traits of a paternalistic leader....</a:t>
            </a: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is style is derived from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Mayo’s work on human relations and Maslow’s lower and middle order needs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e approach is to consult with staff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Usually there is emphasis on training and appraisal for personal development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avan Zora</dc:creator>
  <dc:description/>
  <dc:language>en-US</dc:language>
  <cp:lastModifiedBy>chwh</cp:lastModifiedBy>
  <dcterms:modified xsi:type="dcterms:W3CDTF">2009-03-31T06:52:22Z</dcterms:modified>
  <cp:revision>26</cp:revision>
  <dc:subject/>
  <dc:title>Les Maisonnettes</dc:title>
</cp:coreProperties>
</file>