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9F9-A9AB-485A-B7AB-1627B4FA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B83-60B8-4399-9A5B-3E1C8A01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F60-FC8A-4896-89CB-7A25B1E9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785-4F99-46CC-A950-4B42158C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D103-F4D2-4D75-81C7-D05DA791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D311-7E74-4F51-A050-9DDB953D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F9C3-AE40-4CF0-80F6-6B7BD438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9CED-6AC0-4B20-8FCA-F1DD5A03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4113-7B0F-474C-95C5-2B618FDE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968C-195B-469E-88EC-1920457B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7F67-7CED-4ECD-A6F9-6B503573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E85-3349-496E-8915-0E7FD00C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F23D-6326-400A-B3F3-E1027463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3CCA-0733-47F5-8127-810FA794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9C8E-ED0A-43C8-BDAE-F08D22CA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F766-C1C6-451E-916B-DA2F1673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1FBE-8294-4843-82D3-B632AB5A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E47A-73FA-4958-890B-1146E953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C4B1-E97E-42FD-A83E-0990634B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4B4A-D945-46D3-AD20-EE503746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62EF-3DAF-4768-BF96-8E0EEFB5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AF8B-812B-4002-890B-493A3A8B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4FE-72CE-4C95-BF2F-08DF4C12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B236-FBD0-4804-8665-C9652D2B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62CA-F40A-40A4-B084-A524F556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342A-F3B6-4440-B764-11266683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5EC0-8ED6-4E19-93C0-3046847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58A1-B532-4695-B6D3-B1676F9A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3B668-3C26-4782-AE53-C98434D4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9BF1-4DD7-499F-8772-0B3F7142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098E-7A03-44EC-BE23-BC833410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73A3-B2B3-41BC-827A-19FAD1C4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249D-C003-48EC-867E-07F9224F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70A-BB8C-49A4-A88A-CC8E3256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01AF-6D36-4BD7-9B0B-07781F8D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F741E-2B62-49D8-BD81-9581275C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13B5-2D39-4DDE-84AC-712729CE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D626-DA83-4451-A37E-4F881DB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085C-F8C2-48C0-A5F1-E10AAAB6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04DE-4223-4783-B416-4165118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99817-8C4B-47AB-8B02-B94EF862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466C-AD52-48E9-BD0B-D655CF03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5801-F869-4661-BDB6-22D5DE7C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F1A40-CD25-4CFA-BD71-71A0C9A0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A215-F31D-4EE3-8E38-DEA6A2B9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98099-78A3-48BB-B780-96741A23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D0C44-B559-41E6-9072-C807393F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AE36-A054-447C-B657-A04FCEFE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DBE22-DFD5-4B32-9781-BF57C0DC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CB752-CC9C-4344-BE1B-C0C60E18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7A68-6A23-4E0D-AAF2-B719505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39DB0-FD8F-4967-8B67-3DA96D82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9A23-A906-478C-8980-857112A0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9C34A-1C75-47B9-99A0-09181F3E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C829-8A2B-4A92-A4F5-204D5E18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08C-01B5-4165-936A-20D773E5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0B6B-1533-4833-839E-B7D69AD4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2E199-122A-4B2D-B023-938A2695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B3ED1-DD42-4C64-A7C1-652B2040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85B9A-284C-47A6-B5CB-B325E0B2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53BD9-12CD-4E81-AE70-F071CF1D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2059-B12C-48B5-977A-BA458D61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504E-0327-46A3-A6CF-B91E0592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72DC-641C-4287-AFDA-2639AAC0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B3A00-7706-40E2-93CD-42B176D4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2D1A-D8D4-4AB3-9089-ABCA9D40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148-2060-4692-80B7-C938DD04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663C-7BBB-426E-9541-5A20CEF9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B81A-EE9A-4BE9-9580-86BA891A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4E707-2584-4299-A001-78B4FC79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4B1A6-DCF1-486D-90CD-45066F63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74577-1A29-4440-8015-2AF09971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D9D44-0CFD-4F53-993B-F9C118A2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229C-0217-4002-A16F-0B480E9B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E8F2-7B68-4B64-9476-A1B49975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76E84-12C7-438F-AF91-B3A623D7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A1646-387A-48F4-92F0-970FC956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B07-45DC-42B8-B7FB-42744B77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7813B-7E95-499B-89F2-754D9E3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8D90C-B325-4134-8237-0828536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790F-84FB-4E05-BA02-78DD992B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1E44A-BD39-424F-80B4-EA5A2428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2ACED-CFDF-4AD6-B8EB-07F52A04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FF077-C3E8-4EBF-8538-3A4A5306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F38C-18DC-4A4D-96E5-FBBDFE1B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2F635-E0AF-4BD7-A0AD-9AAD58D5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7C29D-2F3D-4EDF-8487-160C416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2DE7D-D68A-4284-8523-7674F5E3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11C-A94C-436E-8A45-9D3A27E7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AED3-33F8-43AC-B547-F2EE210C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F9EC7-CD39-44DD-A204-64519793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F4E9D-C4F9-4224-83C1-5E02834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AA9AF-B745-4422-A7A0-33A970B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A53AF-1281-4D25-A4F5-0959BEB3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36374-26BD-4DC9-9910-9A5AD039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5080B-C921-440D-92BC-24938ED3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746E-060B-4388-895F-FC9BCE479D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C335-606D-4E83-8D94-98A9048248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502-4A76-4B78-AC73-6005F098D2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748E-C04B-46EF-B71E-E06D5E2B27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B79E-E9EB-4156-BBFF-0CB5BA6D11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7344-7095-4F9E-B497-E2CF041B0D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B5D7-79E0-4A3F-9842-E199FEE622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89D5-D245-4081-9280-54AB46D8DE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23800" y="1749600"/>
            <a:ext cx="82486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64646"/>
                </a:solidFill>
                <a:latin typeface="Lucida Sans Unicode"/>
              </a:rPr>
              <a:t>May 2009 IB Case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464646"/>
                </a:solidFill>
                <a:latin typeface="Lucida Sans Unicode"/>
              </a:rPr>
              <a:t>Issues to Rev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A paternalistic leader thinks and acts like a parent. He/she tries to do their best for their workers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There may be consultation to find out the views of employees, but decisions are made by the head of the family.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is type of leader believes employees need direction but thinks it is important they are supported and cared for properly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Paternalistic managers are interested in the security and social needs of their staff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ey are interested in how workers feel and whether they are happy in their work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Nevertheless, it is quite an autocratic approach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he knows the staff well so feels that a paternalistic approach is best – as they are family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t is not a large groups of employees so she can keep control with this paternalistic approa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this approach, she can care for them and look after their welfare, which will make them want to stay with her – and remain loy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re have been problems with this approa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ff absences and poor punctuality. She has to cover their duties, and this takes her away from her core responsibil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st of her staff are part-time, and are less likely to be motivated? They may need a more strict approach to get them to 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s a paternalistic leader (just like autocratic leaders) she does not give employees control over decision mak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ask in h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radition of the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ype of wor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group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leader’s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Group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ad lines 93-113 of the case study carefully and using your textbook, outline which theorists we can apply to this case study. (leadership (HL) and motivational). (IBO page 26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ing the Raffo book, evaluate the monetary and non-monetary rewards mentioned in the case study (if any). Which do you suggest could be used to solve Sophie’s proble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mportant suggested reading – notes to be made and applied to the case stud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ikert – lead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atrix struc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informal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inzberg/Pe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ophie gets a lot of help with her business from her par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he has several part time and 2 full time employe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hese come from the community, and are family friends with Sophie. This is why she has adopted a paternalistic leadership sty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igh levels of staff turnover punctuali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The Sanctuary recruiting more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aving a large number of periphery and a small number of core workers is causing her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Does this mean it is wise to recruit more part time – and students???? For a low starting salary as well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ust manage her human resources more professionally and consistently. We could argue that her leadership style is not helping these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core staff have similar eco-tourism values, and they give her ideas about how to attract young eco-tourists to the area. This could open up opportunities for h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Lower costs for summer staff – as their salaries will be low as they are student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he covers a busy period (summer) and avoids recruiting permanent staff she may not need later on if she recruited summer staf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y are young/fresh new ideas/eager to work (summer staff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staff would be more committed to LM. They will be more professional as this is their career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ay find it difficult to employ summer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idea will be more expensive – as she will have to give career opportunities and an enhanced pay structur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It may solve some of her problems if she increased her core workers – to make it more professional and avoid the current existing problems she is facing with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Businesses have a core group of workers, which form the basis of its operations and a periphery, which consist of all other tasks needed to run the firm, but which are not central to the busines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Professor Charles Handy suggested that there were three parts to modern firm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Reading Wall page 275-276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Sophie has adopted a paternalistic leadership sty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Definition: where managers and leaders treat their employees as if they were family members by guiding them through a process of consultation. In their opinion, they act in the best interests of their worker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Write down five key features/traits of a paternalistic leader....</a:t>
            </a: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is style is derived from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Mayo’s work on human relations and Maslow’s lower and middle order needs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e approach is to consult with staff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Usually there is emphasis on training and appraisal for personal development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avan Zora</dc:creator>
  <dc:description/>
  <dc:language>en-US</dc:language>
  <cp:lastModifiedBy>chwh</cp:lastModifiedBy>
  <dcterms:modified xsi:type="dcterms:W3CDTF">2009-03-31T06:52:22Z</dcterms:modified>
  <cp:revision>26</cp:revision>
  <dc:subject/>
  <dc:title>Les Maisonnettes</dc:title>
</cp:coreProperties>
</file>